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8.png" ContentType="image/png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A72-46FD-4625-8486-2DEEC7E1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CE5-7FC0-4899-A5FC-AE7EFE6B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91A-2EA4-4436-9C61-096E04D4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1A5-C429-4F87-AB64-EF87959C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FE6-58E0-4697-8DE4-CBAB2805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F66-BB12-44D5-B9E6-9D370A7F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C9D-7D56-4FDD-9D63-7B1C749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74A-C711-477A-950E-608ED926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729-DF57-425D-850B-E94A96C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26F-7FB4-45B4-B3FA-9A9B7AC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F12-F55A-4F28-8BB5-B036902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53D-2E16-4E45-92B8-F011867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B015-E1B2-429B-8DD4-076BE530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Quinturq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Y: Chelsey Marco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43864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3623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is Quinturq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is a search engine that knows everything about the subject you are interested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has all the answers for you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is your very own Librar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213372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3048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intura i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A visual map of tags or hints contextually to your search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With your search query, you can add or subtract tags with just a click of a m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rtain subject that’s are you favorite or most recently searched subjec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ou can results removing search links or web sites from the result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ave the search file and you can share it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ou can monitor new information becoming available on the web related to your person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217880" cy="121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1069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Qui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re is the problem with other Web Se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re is no ability to manage the results by defining context or meaning. It’s not easy to build an advanced search because there's a lack of hints for your 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re is not user-friendly visual management with a mouse cl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documents are ranked by a search engine according to an algorithm. Specific to a search engine and not your inter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ver-ranked commercial and under-ranked non-commercial search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772400" y="914400"/>
            <a:ext cx="10098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What do people this about Quinturq.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the most recently undated and most useful of th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does a great job of showing you the shape of a field of knowl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useful for research or browsing based search where you are trying to find more information on a given top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481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ompany.quintura.com/quintura/What_is_Quint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136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ope you enj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429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22:55:19Z</dcterms:created>
  <dc:creator>Donnelly</dc:creator>
  <dc:description/>
  <dc:language>en-US</dc:language>
  <cp:lastModifiedBy>Donnelly</cp:lastModifiedBy>
  <dcterms:modified xsi:type="dcterms:W3CDTF">2010-11-12T00:19:18Z</dcterms:modified>
  <cp:revision>11</cp:revision>
  <dc:subject/>
  <dc:title>Slide 1</dc:title>
</cp:coreProperties>
</file>